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A91-BA9B-401D-8B35-233BC58F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55F-978E-4D1D-9E95-9AA8C4C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4AC-87AA-4356-904D-CD4BE73A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F7E-147B-4735-B937-EA3144AA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4E6-572E-424E-B587-961B7138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D6B-5C19-4834-8FE2-2AF2C5C6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A63A-08C4-4603-9A56-103C3F64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015-A7B7-4DA8-835F-00A6BA3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5D17-FF90-4937-BC7C-2CEE3CD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FE75-5410-4252-AA0D-B68C7A97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5311-21D2-496C-BC96-7FC75FF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292-0F42-4E77-B962-CA7F5C2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730F-9EAC-422A-A6D6-5322CE2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C58-4AC2-4568-9692-26EC6DA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5814-2C33-49B0-B8A4-1FBAC3F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8723-1B92-4D82-84A6-E4067CA5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F395-24B4-4B6A-ADD3-1499EEB0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9C1-1329-4E0E-9B90-A2C047E1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7F0-DF54-4C86-8245-B66D4E0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7F5-E952-48BF-9EE0-9BE0418D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38F-5ABC-4041-B459-96497E3B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EF3-3741-4037-AC83-7A329E7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EE1-9D56-4A74-AFE9-E962C4C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E84-67FE-40D3-8269-4000FD2A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C5D-3E2A-4AA6-9820-080FF969CAEA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F69-7CB8-4BED-8BA9-14A1490851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6533-B789-42D1-9408-75B3B67BFD3F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294A-EE92-4FFC-A669-119D32D628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EA64-1A91-4C3E-A498-BE466A3F0F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, рассматриваемые в области надеж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AFB-A577-4048-A397-750F6D02A6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эксплуатации объект может находиться в одном из следующих состояний: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исправном, неисправном, работоспособном, неработоспособном и предельн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Исправ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прав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соответствует всем требованиям нормативно-технической и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C0F-B325-4EB7-A6BD-A58E1C45CBB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2560"/>
            <a:ext cx="8675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исправное состоя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исправн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y st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не соответствует хотя бы одному из требований нормативно-технической и (или) конструкторской (проектной) докумен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неисправности, не приводящие к отказам (нарушение лакокрасочного покрытия, износ покрытий кресел), и неисправности, ведущие к возникновению отказа (трещины металлоконстру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мки, не влияющие на безопасность полета, в авиации н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отложенным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такие отказы квалифицируются как БП (без последств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ет с этими неисправностями разрешен, но при этом командир корабля лично принимает решение - отправляться ли в рей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неисправностей, с которыми можно отправляться в полет, индивидуален для каждого самолет и четко прописан в инструкции, составленной конструкторам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Четырехмоторному Ил-96 разрешен вылет с двумя неисправными реверсами при условии, если эти реверсы расположены на симметричных двигателях и если неисправность будет устранена не позже 13 летных часов. В той же инструкции допускается вылет Ил-96 и с тремя неисправными реверсами - но только без пассажиров и только до базового аэродр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DB3-DEC8-4D2C-B41F-B69C895819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Работоспособ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работоспособ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котором значения всех параметров, характеризующих способность выполнять заданные функции, соответствуют требованиям нормативно-технической и 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1AE-EAD4-44E4-8F2A-4A7EFC5465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работоспособное состоя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sta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значение хотя бы одного параметра, характери­зующего способность выполнять заданные функции, не соответствует требованиям нормативно-технической и (или) конструкторской (проектной)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110-386B-4833-A2FE-6B5F3A318A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оспособность и неработоспособность в общем случае могут бы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ны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частичны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ностью работоспособный объект обеспечивает в определенных условиях максимальную эффективность его приме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применения частично работоспособного объекта меньше максимально возможной, но значения ее показателей при этом еще находятся в пределах, установленных для такого функционирования, которое считается нормальным. Частично неработоспособный объект может функционировать, но уровень эффективности при этом ниже допуск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неработоспособный объект применять по назначению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47AB-9388-43C6-8D37-7EA4B41BC0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едельное состояние объек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st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состояние, при котором дальнейшая его эксплуатация недопустима или нецелесообразна, либо восстановление его работоспособного состояния невозможно или нецелесообразн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этом случае эксплуатацию прекращают из-за неустранимого нарушения требований безопасности или неустранимого ухода заданных параметров за установленные пределы, или неустранимого снижения эффективности эксплуатации ниже допустим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CA6-2E65-476D-B74C-B893BB766C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21420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осстанавливаемых объектов (автомобилей) переход в предельное состояние определяется наступлением момента, когда дальнейшая эксплуатация невозможна или нецелесообразна вследствие следующих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ится невозможным поддержание его безопасности, безотказности ил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ффективност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имально допустим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изнашивания и (или) старения объект пришел в такое состояние, при котором ремонт требует недопустимо больших затрат или не обеспечивает необходимой степени восстанов­ления исправности или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E7B-DFA8-4C30-98F7-A7D3A07EE3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ие понят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технических систем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состояния объекта (технической систе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D6E2-78F4-46E9-A973-684AB8DBE9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ории надежности используют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ъ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ле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акже другие обобщающие многочисленные понятия, встречающиеся в технике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ш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грег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з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а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делие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78F7-C522-4F2F-9490-61398573C3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задач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и надежности является изучение закономерностей возникновения отказов и неисправностей объекта и на базе результатов исследований — разработка мероприятий, направленных на обеспечение выполнения объектом заданных функций с наименьшими затра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й в тексте терми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объект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наиболее общим наименованием изделия, например автомобиля, оборудования или отдельной сборочной еди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, предназначенный для самостоятельного выполнения заданных функций, будем называ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C031-F7EF-4A29-97AE-6683D3A1C6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00040" y="285840"/>
            <a:ext cx="22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система состоит и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элементов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самолет как техническая система включает в себя следующие эле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удование и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uz.denemetr.com/tw_files2/urls_8/84/d-83997/7z-docs/1_html_m5e629d0d.png"/>
          <p:cNvPicPr/>
          <p:nvPr/>
        </p:nvPicPr>
        <p:blipFill>
          <a:blip r:embed="rId1"/>
          <a:stretch/>
        </p:blipFill>
        <p:spPr>
          <a:xfrm>
            <a:off x="2678040" y="765000"/>
            <a:ext cx="6332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8F2-19E2-45AA-8023-BBBA4CC726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хнические системы могут бы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восстанавливаемы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станавливае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ительн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к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ервиров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резервирова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5213-C81D-420D-805F-7B6DB82A3A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8429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ую систему называю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восстанавливае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ремонтируемой), если ее отказ приводит к неустранимым последствиям и систему нельзя использовать по своему назна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сле отказа невосстанавливаемой системы считается невозможной или нецелесообра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0D27-1DAA-44D6-BCC1-EA9601FD27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560" y="928440"/>
            <a:ext cx="8443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сстанавливаем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монтируемой) понимают систему, которая может продолжать выполнение своих функций после устранения отказа, вызвавшего прекращение ее функцио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осстанавливаемой системы после отказа может быть возобновлена в результате проведения необходимых восстанови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D7E9-9A2C-49FF-AE12-44300ADB35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280" y="285840"/>
            <a:ext cx="86043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системы смешанного типа, у которых часть элементов может восстанавливаться, а другая —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выполняемых функций различ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длительного и системы короткого времен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зервирование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зывают способ повышения надежности путем включения резервных единиц, способных в случае отказа основного устройства выполнять его функции. Этот метод обладает большими возможностями получения заданных уровней надежности и имеет широкое практическ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10T06:58:23Z</dcterms:modified>
  <cp:revision>12</cp:revision>
  <dc:subject/>
  <dc:title>Лекция  № 11 </dc:title>
</cp:coreProperties>
</file>